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gif" ContentType="image/gif"/>
  <Override PartName="/ppt/media/image8.wmf" ContentType="image/x-wmf"/>
  <Override PartName="/ppt/media/image9.jpeg" ContentType="image/jpeg"/>
  <Override PartName="/ppt/media/image11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8FB-BA0E-4B3A-ACAB-8B8E004D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00C-5CE8-45B4-B015-CC75D320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E22-D022-457D-8727-C80988A9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279-69D1-4F72-9709-38292306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DE2F-1CF5-4AC2-BC7A-A3EFE5E5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746E-AF42-4F89-94E0-DBB9621A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4E3-C2CF-43B7-AF50-359DB04B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6CDF-FCA3-48F1-819E-B6F7A12D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C0AB-03E5-4A18-81BE-5FC20601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19AE-5FE2-4FAC-B1C3-2BB0025E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27DE-ED8B-4096-A60F-EF0FBC5B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E7E-CB2C-4453-A24D-239AE525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33C2-0F42-455D-A6E7-CC46EAF1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7266-E97F-44F9-9494-94A5A54D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3B6E-8C3E-46B9-A870-598C02D7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B815-E31C-45E3-B34E-2A9A6520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DAC7-0998-42E7-8AD1-0C8D9D86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D19-4CEC-4D93-A661-F1FC1A92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DE8-8E76-4975-AE36-B220F5B5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D87-EAFF-4AFA-A0C9-347151B0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A76-CC1B-464F-BCA6-BDBAC229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678-4336-493D-90C7-420120EE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2A5-4B20-4FF4-906E-0676A6F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6FE-50B4-4167-AB04-FEEE92D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D4A7-885D-49F3-8289-CC4A6D8ED3B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8A9E-8C2C-4269-930F-67CE4C5600C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76360" y="162864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c5900"/>
                </a:solidFill>
                <a:latin typeface="Arial"/>
              </a:rPr>
              <a:t>20.1.2</a:t>
            </a:r>
            <a:r>
              <a:rPr b="1" lang="zh-CN" sz="5400" spc="-1" strike="noStrike">
                <a:solidFill>
                  <a:srgbClr val="dc5900"/>
                </a:solidFill>
                <a:latin typeface="Arial"/>
              </a:rPr>
              <a:t>中位数和众数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39640" y="11592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练习：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P144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922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在一组数据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0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中插入一个数据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使该组数据的中位数为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则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_______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8446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637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、甲、乙两班举行电脑汉字输入速度比赛，参赛学生每分钟的个数经统计计算后得下表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6920" y="3716280"/>
          <a:ext cx="6985080" cy="1555920"/>
        </p:xfrm>
        <a:graphic>
          <a:graphicData uri="http://schemas.openxmlformats.org/drawingml/2006/table">
            <a:tbl>
              <a:tblPr/>
              <a:tblGrid>
                <a:gridCol w="1523880"/>
                <a:gridCol w="1789200"/>
                <a:gridCol w="1584360"/>
                <a:gridCol w="208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班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参加人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中位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平均字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甲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4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3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3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50920" y="53038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比较两班的学生成绩的平均水平，优秀率（每分钟输入汉字数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50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个为优秀）的高低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189000"/>
            <a:ext cx="1981440" cy="685800"/>
          </a:xfrm>
          <a:custGeom>
            <a:avLst/>
            <a:gdLst>
              <a:gd name="textAreaLeft" fmla="*/ 131760 w 1981440"/>
              <a:gd name="textAreaRight" fmla="*/ 1849680 w 1981440"/>
              <a:gd name="textAreaTop" fmla="*/ 131760 h 685800"/>
              <a:gd name="textAreaBottom" fmla="*/ 554040 h 685800"/>
            </a:gdLst>
            <a:ahLst/>
            <a:rect l="textAreaLeft" t="textAreaTop" r="textAreaRight" b="textAreaBottom"/>
            <a:pathLst>
              <a:path w="62386" h="21600">
                <a:moveTo>
                  <a:pt x="0" y="0"/>
                </a:moveTo>
                <a:lnTo>
                  <a:pt x="62386" y="0"/>
                </a:lnTo>
                <a:lnTo>
                  <a:pt x="62386" y="21600"/>
                </a:lnTo>
                <a:lnTo>
                  <a:pt x="0" y="21600"/>
                </a:lnTo>
                <a:close/>
              </a:path>
              <a:path fill="lightenLess" w="62386" h="21600">
                <a:moveTo>
                  <a:pt x="0" y="0"/>
                </a:moveTo>
                <a:lnTo>
                  <a:pt x="62386" y="0"/>
                </a:lnTo>
                <a:lnTo>
                  <a:pt x="58236" y="4150"/>
                </a:lnTo>
                <a:lnTo>
                  <a:pt x="4150" y="4150"/>
                </a:lnTo>
                <a:close/>
              </a:path>
              <a:path fill="darken" w="62386" h="21600">
                <a:moveTo>
                  <a:pt x="62386" y="0"/>
                </a:moveTo>
                <a:lnTo>
                  <a:pt x="62386" y="21600"/>
                </a:lnTo>
                <a:lnTo>
                  <a:pt x="58236" y="17450"/>
                </a:lnTo>
                <a:lnTo>
                  <a:pt x="58236" y="4150"/>
                </a:lnTo>
                <a:close/>
              </a:path>
              <a:path fill="darkenLess" w="62386" h="21600">
                <a:moveTo>
                  <a:pt x="62386" y="21600"/>
                </a:moveTo>
                <a:lnTo>
                  <a:pt x="0" y="21600"/>
                </a:lnTo>
                <a:lnTo>
                  <a:pt x="4150" y="17450"/>
                </a:lnTo>
                <a:lnTo>
                  <a:pt x="58236" y="17450"/>
                </a:lnTo>
                <a:close/>
              </a:path>
              <a:path fill="lighten" w="62386" h="21600">
                <a:moveTo>
                  <a:pt x="0" y="21600"/>
                </a:moveTo>
                <a:lnTo>
                  <a:pt x="0" y="0"/>
                </a:lnTo>
                <a:lnTo>
                  <a:pt x="4150" y="4150"/>
                </a:lnTo>
                <a:lnTo>
                  <a:pt x="4150" y="1745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8f949"/>
                </a:solidFill>
                <a:latin typeface="Tahoma"/>
                <a:ea typeface="楷体_GB2312"/>
              </a:rPr>
              <a:t>试一试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308720" y="5661000"/>
            <a:ext cx="1835280" cy="1197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1280" y="11192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、在一次数学竞赛中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名学生的成绩从低到高排列依 次是 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55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57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6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6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98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那么他们的中位数是多少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557360"/>
            <a:ext cx="50508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20" y="213372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名工人某天生产同一零件，生产的件数是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求这一天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名工人生产的零件的中位数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068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8000" y="3573360"/>
            <a:ext cx="90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、某班一组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人的英语成绩如下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84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7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89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78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8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86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89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84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78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．则这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个数的平均数是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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中位数是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______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8000" y="508464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一组数据按从小到大顺序排列为：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13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14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19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23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27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28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31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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其中位数是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22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，则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为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_______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Times New Roman"/>
              </a:rPr>
              <a:t>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4365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7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96360" y="436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9500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93963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如何求一组数据的</a:t>
            </a: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中位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众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？应注意什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27240" y="534960"/>
            <a:ext cx="20095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与反思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7280" y="2421000"/>
            <a:ext cx="8856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中位数要将一组数据按大小顺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顾名思义，中位数就是位置处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中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个数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或最中间的两个数的平均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排序      时，从小到大或从大到小都可以．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414972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众数是一组数据中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出现次数最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数据，是一组数据中的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原数据</a:t>
            </a:r>
            <a:r>
              <a:rPr b="1" lang="en-US" sz="2800" spc="-1" strike="noStrike">
                <a:solidFill>
                  <a:srgbClr val="d7070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不是相应的次数．众数有可能不唯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不要遗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404640"/>
            <a:ext cx="874872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双语学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第二届校运会初二的男子跳高比赛       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,1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名选手的成绩如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单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:cm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　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15     120      128     130      123     110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05      125      125     127      132     12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。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068640"/>
            <a:ext cx="850572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070c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d7070c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d7070c"/>
                </a:solidFill>
                <a:latin typeface="黑体"/>
                <a:ea typeface="黑体"/>
              </a:rPr>
              <a:t>先将这组数据按照由小到大的顺序排列</a:t>
            </a:r>
            <a:r>
              <a:rPr b="1" lang="en-US" sz="2800" spc="-1" strike="noStrike">
                <a:solidFill>
                  <a:srgbClr val="d7070c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d7070c"/>
              </a:buClr>
              <a:buFont typeface="黑体"/>
              <a:buAutoNum type="arabicPlain" startAt="10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070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d7070c"/>
                </a:solidFill>
                <a:latin typeface="黑体"/>
                <a:ea typeface="黑体"/>
              </a:rPr>
              <a:t>110   115   120   120   123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buClr>
                <a:srgbClr val="d7070c"/>
              </a:buClr>
              <a:buFont typeface="黑体"/>
              <a:buAutoNum type="arabicPlain" startAt="1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070c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d7070c"/>
                </a:solidFill>
                <a:latin typeface="黑体"/>
                <a:ea typeface="黑体"/>
              </a:rPr>
              <a:t>125   127   128   130   132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070c"/>
                </a:solidFill>
                <a:latin typeface="黑体"/>
                <a:ea typeface="黑体"/>
              </a:rPr>
              <a:t>处于中间的两个数是</a:t>
            </a:r>
            <a:r>
              <a:rPr b="1" lang="en-US" sz="2800" spc="-1" strike="noStrike">
                <a:solidFill>
                  <a:srgbClr val="d7070c"/>
                </a:solidFill>
                <a:latin typeface="黑体"/>
                <a:ea typeface="黑体"/>
              </a:rPr>
              <a:t>123</a:t>
            </a:r>
            <a:r>
              <a:rPr b="1" lang="zh-CN" sz="2800" spc="-1" strike="noStrike">
                <a:solidFill>
                  <a:srgbClr val="d7070c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d7070c"/>
                </a:solidFill>
                <a:latin typeface="黑体"/>
                <a:ea typeface="黑体"/>
              </a:rPr>
              <a:t>125,</a:t>
            </a:r>
            <a:r>
              <a:rPr b="1" lang="zh-CN" sz="2800" spc="-1" strike="noStrike">
                <a:solidFill>
                  <a:srgbClr val="d7070c"/>
                </a:solidFill>
                <a:latin typeface="黑体"/>
                <a:ea typeface="黑体"/>
              </a:rPr>
              <a:t>则中位数是 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492280"/>
            <a:ext cx="47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组数据的中位数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53737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位选手的成绩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5cm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对他的成绩有何评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659640" y="4313160"/>
            <a:ext cx="2411280" cy="1060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59500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解：他的成绩是中等水平（合理即可）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00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活动与研究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4000" y="0"/>
            <a:ext cx="7920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某餐厅共有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名员工，所有员工的工资的情况如下表所示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11280" y="907920"/>
          <a:ext cx="8280360" cy="2017800"/>
        </p:xfrm>
        <a:graphic>
          <a:graphicData uri="http://schemas.openxmlformats.org/drawingml/2006/table">
            <a:tbl>
              <a:tblPr/>
              <a:tblGrid>
                <a:gridCol w="1425600"/>
                <a:gridCol w="981000"/>
                <a:gridCol w="978120"/>
                <a:gridCol w="979200"/>
                <a:gridCol w="978120"/>
                <a:gridCol w="981000"/>
                <a:gridCol w="977760"/>
                <a:gridCol w="979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人员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经理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厨师甲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厨师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会计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服务员甲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服务员乙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勤杂工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工资额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6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4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2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179280" y="3573360"/>
            <a:ext cx="50508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解答下列问题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3213000"/>
            <a:ext cx="813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餐厅所有员工的工资的平均数是多少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3789360"/>
            <a:ext cx="68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所有员工的工资的中位数是多少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4437000"/>
            <a:ext cx="777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用平均数还是中位数，描述该餐厅员工工资的一般水平比较恰当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5589720"/>
            <a:ext cx="8137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去掉经理的工资后，其他员工的平均工资是多少元？是否能反映餐厅员工工资的一般水平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3213000"/>
            <a:ext cx="813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餐厅所有员工的工资的平均数是多少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3789360"/>
            <a:ext cx="68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所有员工的工资的中位数是多少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4437000"/>
            <a:ext cx="777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用平均数还是中位数，描述该餐厅员工工资的一般水平比较恰当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3213000"/>
            <a:ext cx="813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餐厅所有员工的工资的平均数是多少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789360"/>
            <a:ext cx="68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所有员工的工资的中位数是多少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5589720"/>
            <a:ext cx="8137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去掉经理的工资后，其他员工的平均工资是多少元？是否能反映餐厅员工工资的一般水平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4437000"/>
            <a:ext cx="777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用平均数还是中位数，描述该餐厅员工工资的一般水平比较恰当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3213000"/>
            <a:ext cx="813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餐厅所有员工的工资的平均数是多少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3789360"/>
            <a:ext cx="687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所有员工的工资的中位数是多少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90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家鞋店在一段时间内销售了某种运动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双，各种尺码的鞋的销售量如下</a:t>
            </a:r>
            <a:r>
              <a:rPr b="1" lang="zh-CN" sz="4000" spc="-1" strike="noStrike">
                <a:solidFill>
                  <a:srgbClr val="c0c0c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50920" y="2421000"/>
            <a:ext cx="8568720" cy="2655360"/>
            <a:chOff x="250920" y="2421000"/>
            <a:chExt cx="8568720" cy="2655360"/>
          </a:xfrm>
        </p:grpSpPr>
        <p:grpSp>
          <p:nvGrpSpPr>
            <p:cNvPr id="206" name=""/>
            <p:cNvGrpSpPr/>
            <p:nvPr/>
          </p:nvGrpSpPr>
          <p:grpSpPr>
            <a:xfrm>
              <a:off x="258840" y="2428920"/>
              <a:ext cx="8551440" cy="2638440"/>
              <a:chOff x="258840" y="2428920"/>
              <a:chExt cx="8551440" cy="263844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258840" y="2428920"/>
                <a:ext cx="2104200" cy="1319400"/>
                <a:chOff x="258840" y="2428920"/>
                <a:chExt cx="2104200" cy="1319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77640" y="2428920"/>
                  <a:ext cx="186660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7a77"/>
                      </a:solidFill>
                      <a:latin typeface="Times New Roman"/>
                    </a:rPr>
                    <a:t>鞋的尺码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7a77"/>
                      </a:solidFill>
                      <a:latin typeface="Times New Roman"/>
                    </a:rPr>
                    <a:t>（单位：厘米）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58840" y="2428920"/>
                  <a:ext cx="210420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63400" y="2428920"/>
                <a:ext cx="778680" cy="1319400"/>
                <a:chOff x="2363400" y="2428920"/>
                <a:chExt cx="778680" cy="13194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82200" y="2428920"/>
                  <a:ext cx="54072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2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63400" y="2428920"/>
                  <a:ext cx="77868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142440" y="2428920"/>
                <a:ext cx="1109520" cy="1319400"/>
                <a:chOff x="3142440" y="2428920"/>
                <a:chExt cx="1109520" cy="13194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261240" y="2428920"/>
                  <a:ext cx="87156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2</a:t>
                  </a:r>
                  <a:r>
                    <a:rPr b="0" lang="zh-CN" sz="2000" spc="-1" strike="noStrike">
                      <a:solidFill>
                        <a:srgbClr val="c0c0c0"/>
                      </a:solidFill>
                      <a:latin typeface="Times New Roman"/>
                    </a:rPr>
                    <a:t>．</a:t>
                  </a: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142440" y="2428920"/>
                  <a:ext cx="110952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252680" y="2428920"/>
                <a:ext cx="778680" cy="1319400"/>
                <a:chOff x="4252680" y="2428920"/>
                <a:chExt cx="778680" cy="13194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371480" y="2428920"/>
                  <a:ext cx="54072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252680" y="2428920"/>
                  <a:ext cx="77868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031720" y="2428920"/>
                <a:ext cx="1110240" cy="1319400"/>
                <a:chOff x="5031720" y="2428920"/>
                <a:chExt cx="1110240" cy="1319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50520" y="2428920"/>
                  <a:ext cx="87228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3</a:t>
                  </a:r>
                  <a:r>
                    <a:rPr b="0" lang="zh-CN" sz="2000" spc="-1" strike="noStrike">
                      <a:solidFill>
                        <a:srgbClr val="c0c0c0"/>
                      </a:solidFill>
                      <a:latin typeface="Times New Roman"/>
                    </a:rPr>
                    <a:t>．</a:t>
                  </a: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031720" y="2428920"/>
                  <a:ext cx="111024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42320" y="2428920"/>
                <a:ext cx="777960" cy="1319400"/>
                <a:chOff x="6142320" y="2428920"/>
                <a:chExt cx="777960" cy="13194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261120" y="2428920"/>
                  <a:ext cx="54036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4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42320" y="2428920"/>
                  <a:ext cx="77796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21000" y="2428920"/>
                <a:ext cx="1110240" cy="1319400"/>
                <a:chOff x="6921000" y="2428920"/>
                <a:chExt cx="1110240" cy="13194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39800" y="2428920"/>
                  <a:ext cx="87228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4</a:t>
                  </a:r>
                  <a:r>
                    <a:rPr b="0" lang="zh-CN" sz="2000" spc="-1" strike="noStrike">
                      <a:solidFill>
                        <a:srgbClr val="c0c0c0"/>
                      </a:solidFill>
                      <a:latin typeface="Times New Roman"/>
                    </a:rPr>
                    <a:t>．</a:t>
                  </a: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21000" y="2428920"/>
                  <a:ext cx="111024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8031600" y="2428920"/>
                <a:ext cx="778680" cy="1319400"/>
                <a:chOff x="8031600" y="2428920"/>
                <a:chExt cx="778680" cy="13194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8150400" y="2428920"/>
                  <a:ext cx="54072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5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31600" y="2428920"/>
                  <a:ext cx="778680" cy="131940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58840" y="3748680"/>
                <a:ext cx="2104200" cy="1318680"/>
                <a:chOff x="258840" y="3748680"/>
                <a:chExt cx="2104200" cy="13186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77640" y="3748680"/>
                  <a:ext cx="186660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7a77"/>
                      </a:solidFill>
                      <a:latin typeface="Times New Roman"/>
                    </a:rPr>
                    <a:t>销售量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7a77"/>
                      </a:solidFill>
                      <a:latin typeface="Times New Roman"/>
                    </a:rPr>
                    <a:t>（单位：双）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58840" y="3748680"/>
                  <a:ext cx="210420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363400" y="3748680"/>
                <a:ext cx="778680" cy="1318680"/>
                <a:chOff x="2363400" y="3748680"/>
                <a:chExt cx="778680" cy="13186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482200" y="3748680"/>
                  <a:ext cx="54072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363400" y="3748680"/>
                  <a:ext cx="77868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42440" y="3748680"/>
                <a:ext cx="1109520" cy="1318680"/>
                <a:chOff x="3142440" y="3748680"/>
                <a:chExt cx="1109520" cy="13186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261240" y="3748680"/>
                  <a:ext cx="87156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42440" y="3748680"/>
                  <a:ext cx="110952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252680" y="3748680"/>
                <a:ext cx="778680" cy="1318680"/>
                <a:chOff x="4252680" y="3748680"/>
                <a:chExt cx="778680" cy="13186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371480" y="3748680"/>
                  <a:ext cx="54072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252680" y="3748680"/>
                  <a:ext cx="77868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031720" y="3748680"/>
                <a:ext cx="1110240" cy="1318680"/>
                <a:chOff x="5031720" y="3748680"/>
                <a:chExt cx="1110240" cy="13186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150520" y="3748680"/>
                  <a:ext cx="87228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31720" y="3748680"/>
                  <a:ext cx="111024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142320" y="3748680"/>
                <a:ext cx="777960" cy="1318680"/>
                <a:chOff x="6142320" y="3748680"/>
                <a:chExt cx="777960" cy="13186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261120" y="3748680"/>
                  <a:ext cx="54036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142320" y="3748680"/>
                  <a:ext cx="77796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921000" y="3748680"/>
                <a:ext cx="1110240" cy="1318680"/>
                <a:chOff x="6921000" y="3748680"/>
                <a:chExt cx="1110240" cy="1318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039800" y="3748680"/>
                  <a:ext cx="87228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921000" y="3748680"/>
                  <a:ext cx="111024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8031600" y="3748680"/>
                <a:ext cx="778680" cy="1318680"/>
                <a:chOff x="8031600" y="3748680"/>
                <a:chExt cx="778680" cy="1318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8150400" y="3748680"/>
                  <a:ext cx="54072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c0c0c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031600" y="3748680"/>
                  <a:ext cx="778680" cy="1318680"/>
                </a:xfrm>
                <a:prstGeom prst="rect">
                  <a:avLst/>
                </a:prstGeom>
                <a:solidFill>
                  <a:srgbClr val="ffffff"/>
                </a:solidFill>
                <a:ln w="7632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7a77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250920" y="2421000"/>
              <a:ext cx="8568720" cy="2655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28600" y="3505320"/>
            <a:ext cx="8610480" cy="0"/>
          </a:xfrm>
          <a:prstGeom prst="line">
            <a:avLst/>
          </a:prstGeom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0920" y="2421000"/>
            <a:ext cx="0" cy="27432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43280" y="2421000"/>
            <a:ext cx="0" cy="27432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2492280"/>
            <a:ext cx="0" cy="26002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421000"/>
            <a:ext cx="0" cy="26668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2421000"/>
            <a:ext cx="0" cy="267156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59640" y="2421000"/>
            <a:ext cx="0" cy="26668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40720" y="2421000"/>
            <a:ext cx="0" cy="266688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2421000"/>
            <a:ext cx="1904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鞋的尺码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厘米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3500280"/>
            <a:ext cx="1752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销售量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2666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22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40000" y="38606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43280" y="2637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22.5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38098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2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25653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23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3809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5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2637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23.5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3809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11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2666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24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3809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7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278136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宋体"/>
              </a:rPr>
              <a:t>24.5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38098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3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2666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25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77320" y="3809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1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51055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ahoma"/>
              </a:rPr>
              <a:t>假如你是老板，你最关心哪一个统计量</a:t>
            </a:r>
            <a:r>
              <a:rPr b="0" lang="en-US" sz="4000" spc="-1" strike="noStrike">
                <a:solidFill>
                  <a:srgbClr val="6600ff"/>
                </a:solidFill>
                <a:latin typeface="Tahoma"/>
              </a:rPr>
              <a:t>?</a:t>
            </a:r>
            <a:r>
              <a:rPr b="1" lang="zh-CN" sz="4000" spc="-1" strike="noStrike">
                <a:solidFill>
                  <a:srgbClr val="6600ff"/>
                </a:solidFill>
                <a:latin typeface="Tahoma"/>
              </a:rPr>
              <a:t>你会如何进货</a:t>
            </a:r>
            <a:r>
              <a:rPr b="0" lang="en-US" sz="4000" spc="-1" strike="noStrike">
                <a:solidFill>
                  <a:srgbClr val="6600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50920" y="0"/>
            <a:ext cx="48258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换位思考</a:t>
            </a:r>
            <a:r>
              <a:rPr b="0" lang="en-US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:</a:t>
            </a: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学以致用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287280" y="1413000"/>
          <a:ext cx="8229600" cy="1095120"/>
        </p:xfrm>
        <a:graphic>
          <a:graphicData uri="http://schemas.openxmlformats.org/drawingml/2006/table">
            <a:tbl>
              <a:tblPr/>
              <a:tblGrid>
                <a:gridCol w="2158920"/>
                <a:gridCol w="793800"/>
                <a:gridCol w="1006560"/>
                <a:gridCol w="720720"/>
                <a:gridCol w="936720"/>
                <a:gridCol w="934920"/>
                <a:gridCol w="936720"/>
                <a:gridCol w="74124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尺码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\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厘米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.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3.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4.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销售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\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287280" y="3362400"/>
            <a:ext cx="3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4200" y="3500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由表可以看出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在鞋的尺码组成的一组数据中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,23.5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是这组数据的众数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即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23.5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码的鞋销量最大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因此可以建议鞋店多进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23.5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码的鞋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85360" y="216000"/>
            <a:ext cx="43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例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家鞋店在一段时间内销售了某种女鞋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各种尺码鞋的销售量如下表所示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89560" y="2637000"/>
            <a:ext cx="56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你能根据上面的数据这这家鞋店提供进货建议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566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你还能提出其它的建议吗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7308720" y="54180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55640" y="260280"/>
            <a:ext cx="83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某商场服装部为了调动营业员的积极性。决定实行目标管理。即确定一个月销售目标，根据目标完成的情况对营业员进行适当的奖惩。为了确定一个适当的目标，商场统计了每个营业员在某月的销售额，数据如下（单位：万元）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7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3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28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26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9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7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9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30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26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23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7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28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28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华文新魏"/>
              </a:rPr>
              <a:t>19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3357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月销售额在哪个值的人数最多？中间的月销售额是多少？平均的月销售额是多少 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4437000"/>
            <a:ext cx="83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如果想确定一个较高的销售目标，你认为月销售额定为多少合适？说明理由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54450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如果想让一半左右的营业员都能达到目标，你认为月销售额定为多少合适？说明理由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40" y="260280"/>
            <a:ext cx="850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活动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4000" y="0"/>
            <a:ext cx="73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解：整理上面的数据得到图表如下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8000" y="549360"/>
          <a:ext cx="8929800" cy="793800"/>
        </p:xfrm>
        <a:graphic>
          <a:graphicData uri="http://schemas.openxmlformats.org/drawingml/2006/table">
            <a:tbl>
              <a:tblPr/>
              <a:tblGrid>
                <a:gridCol w="2050920"/>
                <a:gridCol w="492120"/>
                <a:gridCol w="490680"/>
                <a:gridCol w="492120"/>
                <a:gridCol w="490680"/>
                <a:gridCol w="492120"/>
                <a:gridCol w="490320"/>
                <a:gridCol w="492120"/>
                <a:gridCol w="490680"/>
                <a:gridCol w="492120"/>
                <a:gridCol w="490320"/>
                <a:gridCol w="492120"/>
                <a:gridCol w="490680"/>
                <a:gridCol w="492120"/>
                <a:gridCol w="490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销售额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万元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频数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0" y="1412640"/>
            <a:ext cx="8937720" cy="2227320"/>
            <a:chOff x="0" y="1412640"/>
            <a:chExt cx="8937720" cy="2227320"/>
          </a:xfrm>
        </p:grpSpPr>
        <p:sp>
          <p:nvSpPr>
            <p:cNvPr id="297" name=""/>
            <p:cNvSpPr/>
            <p:nvPr/>
          </p:nvSpPr>
          <p:spPr>
            <a:xfrm>
              <a:off x="7613640" y="294372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23120" y="294372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29360" y="294372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38840" y="294372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43640" y="2943720"/>
              <a:ext cx="2952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49880" y="294372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57920" y="294372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67400" y="294372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5440" y="294372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1680" y="294372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6480" y="2943720"/>
              <a:ext cx="2952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95960" y="294372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02200" y="294372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13120" y="2943720"/>
              <a:ext cx="289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17920" y="2943720"/>
              <a:ext cx="2952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24160" y="294372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32200" y="294372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39880" y="2943720"/>
              <a:ext cx="2923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47920" y="294372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55960" y="294372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60400" y="2943720"/>
              <a:ext cx="2955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69880" y="294372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76480" y="2943720"/>
              <a:ext cx="2934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84160" y="2943720"/>
              <a:ext cx="2923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200" y="294372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13640" y="273060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3120" y="273060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29360" y="273060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38840" y="273060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43640" y="273060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49880" y="273060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57920" y="273060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67400" y="273060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275440" y="273060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81680" y="273060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86480" y="273060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95960" y="273060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02200" y="273060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13120" y="2730600"/>
              <a:ext cx="289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17920" y="273060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24160" y="273060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2200" y="273060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39880" y="2730600"/>
              <a:ext cx="2923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47920" y="273060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55960" y="273060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60400" y="2730600"/>
              <a:ext cx="295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69880" y="273060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76480" y="2730600"/>
              <a:ext cx="293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4160" y="2730600"/>
              <a:ext cx="2923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2200" y="273060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13640" y="2517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23120" y="251784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29360" y="2517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38840" y="251784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43640" y="251784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49880" y="2517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7920" y="2517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67400" y="251784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75440" y="2517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81680" y="2517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86480" y="251784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95960" y="251784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2200" y="2517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13120" y="2517840"/>
              <a:ext cx="289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17920" y="251784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24160" y="2517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32200" y="2517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39880" y="2517840"/>
              <a:ext cx="2923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47920" y="2517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55960" y="2517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60400" y="2517840"/>
              <a:ext cx="295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69880" y="251784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76480" y="2517840"/>
              <a:ext cx="293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84160" y="2517840"/>
              <a:ext cx="2923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2200" y="2517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13640" y="2305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23120" y="230508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29360" y="2305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38840" y="230508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43640" y="2305080"/>
              <a:ext cx="2952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49880" y="2305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57920" y="2305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67400" y="230508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75440" y="2305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81680" y="2305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86480" y="2305080"/>
              <a:ext cx="2952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95960" y="230508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02200" y="2305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13120" y="2305080"/>
              <a:ext cx="289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17920" y="2305080"/>
              <a:ext cx="2952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24160" y="2305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32200" y="2305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9880" y="2305080"/>
              <a:ext cx="2923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47920" y="2305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55960" y="2305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60400" y="2305080"/>
              <a:ext cx="2955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69880" y="230508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76480" y="2305080"/>
              <a:ext cx="2934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84160" y="2305080"/>
              <a:ext cx="2923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2200" y="2305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13640" y="209196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23120" y="209196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29360" y="209196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38840" y="209196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43640" y="209196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49880" y="209196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57920" y="209196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67400" y="209196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75440" y="209196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81680" y="209196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86480" y="209196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95960" y="209196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02200" y="209196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13120" y="2091960"/>
              <a:ext cx="289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17920" y="209196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24160" y="209196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32200" y="209196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39880" y="2091960"/>
              <a:ext cx="2923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47920" y="209196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55960" y="209196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60400" y="2091960"/>
              <a:ext cx="295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69880" y="209196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76480" y="2091960"/>
              <a:ext cx="293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84160" y="2091960"/>
              <a:ext cx="2923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2200" y="209196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13640" y="1878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23120" y="187884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29360" y="1878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38840" y="187884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43640" y="187884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49880" y="1878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57920" y="1878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7400" y="187884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75440" y="1878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81680" y="1878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86480" y="187884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95960" y="187884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02200" y="1878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13120" y="1878840"/>
              <a:ext cx="2890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17920" y="1878840"/>
              <a:ext cx="295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24160" y="1878840"/>
              <a:ext cx="293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32200" y="1878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9880" y="1878840"/>
              <a:ext cx="2923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47920" y="1878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5960" y="1878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60400" y="1878840"/>
              <a:ext cx="295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69880" y="1878840"/>
              <a:ext cx="290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76480" y="1878840"/>
              <a:ext cx="293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84160" y="1878840"/>
              <a:ext cx="2923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2200" y="1878840"/>
              <a:ext cx="2919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13640" y="1666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23120" y="166608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9360" y="1666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38840" y="166608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43640" y="1666080"/>
              <a:ext cx="2952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49880" y="1666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57920" y="1666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67400" y="166608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75440" y="1666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81680" y="1666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86480" y="1666080"/>
              <a:ext cx="2952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95960" y="1666080"/>
              <a:ext cx="2905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02200" y="1666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13120" y="1666080"/>
              <a:ext cx="2890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17920" y="1666080"/>
              <a:ext cx="2952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24160" y="1666080"/>
              <a:ext cx="2937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32200" y="1666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39880" y="1666080"/>
              <a:ext cx="2923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47920" y="1666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55960" y="1666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60400" y="1666080"/>
              <a:ext cx="2955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76480" y="1666080"/>
              <a:ext cx="2934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84160" y="1666080"/>
              <a:ext cx="2923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2200" y="1666080"/>
              <a:ext cx="2919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2840" y="1855440"/>
              <a:ext cx="815184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840" y="2107080"/>
              <a:ext cx="815184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2840" y="2296440"/>
              <a:ext cx="815184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2840" y="2485800"/>
              <a:ext cx="815184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2840" y="2738880"/>
              <a:ext cx="815184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2840" y="2928240"/>
              <a:ext cx="8151840" cy="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2200" y="3156480"/>
              <a:ext cx="7315200" cy="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2840" y="1666080"/>
              <a:ext cx="0" cy="149004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884160" y="1855440"/>
              <a:ext cx="1584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176480" y="1855440"/>
              <a:ext cx="1080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469880" y="1855440"/>
              <a:ext cx="648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760040" y="1855440"/>
              <a:ext cx="324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50920" y="1855440"/>
              <a:ext cx="504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40000" y="1855440"/>
              <a:ext cx="792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27280" y="1855440"/>
              <a:ext cx="1260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16360" y="1855440"/>
              <a:ext cx="1584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03640" y="1855440"/>
              <a:ext cx="2052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92360" y="1855440"/>
              <a:ext cx="2556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80000" y="1855440"/>
              <a:ext cx="3312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67280" y="1855440"/>
              <a:ext cx="3492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56000" y="1855440"/>
              <a:ext cx="3996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686120" y="1855440"/>
              <a:ext cx="2988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981320" y="1855440"/>
              <a:ext cx="2196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275440" y="1855440"/>
              <a:ext cx="1728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567040" y="1855440"/>
              <a:ext cx="1260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857920" y="1855440"/>
              <a:ext cx="936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6149880" y="1855440"/>
              <a:ext cx="648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43640" y="1855440"/>
              <a:ext cx="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32720" y="1855440"/>
              <a:ext cx="612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20000" y="1855440"/>
              <a:ext cx="936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08720" y="1855440"/>
              <a:ext cx="1440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96360" y="1855440"/>
              <a:ext cx="17280" cy="1301040"/>
            </a:xfrm>
            <a:prstGeom prst="line">
              <a:avLst/>
            </a:prstGeom>
            <a:ln w="12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59640" y="1855440"/>
              <a:ext cx="5040" cy="1301040"/>
            </a:xfrm>
            <a:prstGeom prst="line">
              <a:avLst/>
            </a:prstGeom>
            <a:ln cap="sq"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2200" y="3180240"/>
              <a:ext cx="8083440" cy="0"/>
            </a:xfrm>
            <a:prstGeom prst="line">
              <a:avLst/>
            </a:prstGeom>
            <a:ln w="475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312840" y="1412640"/>
              <a:ext cx="0" cy="1767240"/>
            </a:xfrm>
            <a:prstGeom prst="line">
              <a:avLst/>
            </a:prstGeom>
            <a:ln w="475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2840" y="3106440"/>
              <a:ext cx="279360" cy="147240"/>
            </a:xfrm>
            <a:custGeom>
              <a:avLst/>
              <a:gdLst/>
              <a:ahLst/>
              <a:rect l="l" t="t" r="r" b="b"/>
              <a:pathLst>
                <a:path w="181" h="106">
                  <a:moveTo>
                    <a:pt x="0" y="53"/>
                  </a:moveTo>
                  <a:cubicBezTo>
                    <a:pt x="15" y="26"/>
                    <a:pt x="30" y="0"/>
                    <a:pt x="45" y="8"/>
                  </a:cubicBezTo>
                  <a:cubicBezTo>
                    <a:pt x="60" y="16"/>
                    <a:pt x="76" y="99"/>
                    <a:pt x="91" y="99"/>
                  </a:cubicBezTo>
                  <a:cubicBezTo>
                    <a:pt x="106" y="99"/>
                    <a:pt x="129" y="8"/>
                    <a:pt x="136" y="8"/>
                  </a:cubicBezTo>
                  <a:cubicBezTo>
                    <a:pt x="143" y="8"/>
                    <a:pt x="129" y="92"/>
                    <a:pt x="136" y="99"/>
                  </a:cubicBezTo>
                  <a:cubicBezTo>
                    <a:pt x="143" y="106"/>
                    <a:pt x="174" y="61"/>
                    <a:pt x="181" y="53"/>
                  </a:cubicBezTo>
                </a:path>
              </a:pathLst>
            </a:custGeom>
            <a:noFill/>
            <a:ln w="442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2360" y="318024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3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079640" y="3180240"/>
              <a:ext cx="62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4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06400" y="318024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5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63680" y="3180240"/>
              <a:ext cx="4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6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90800" y="318024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7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48080" y="3180240"/>
              <a:ext cx="6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05360" y="318024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19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32480" y="31802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22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59240" y="318024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23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16520" y="318024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24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75240" y="3180240"/>
              <a:ext cx="76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26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0920" y="318024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28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559640" y="318024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30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116920" y="3178800"/>
              <a:ext cx="4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32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85080" y="1855440"/>
              <a:ext cx="22320" cy="13248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172360" y="1855440"/>
              <a:ext cx="12960" cy="13248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0" y="3054960"/>
              <a:ext cx="3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0" y="2549880"/>
              <a:ext cx="4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2106000"/>
              <a:ext cx="55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1666080"/>
              <a:ext cx="6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591840" y="1855440"/>
              <a:ext cx="19080" cy="13248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8920" y="1476720"/>
              <a:ext cx="98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频数</a:t>
              </a: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/</a:t>
              </a:r>
              <a:r>
                <a:rPr b="1" lang="zh-CN" sz="20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人数</a:t>
              </a:r>
              <a:endParaRPr b="0" lang="en-US" sz="2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147520" y="1667520"/>
              <a:ext cx="79020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销售额</a:t>
              </a: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/</a:t>
              </a:r>
              <a:r>
                <a:rPr b="1" lang="zh-CN" sz="2000" spc="-1" strike="noStrike">
                  <a:solidFill>
                    <a:srgbClr val="003399"/>
                  </a:solidFill>
                  <a:latin typeface="Times New Roman"/>
                  <a:ea typeface="楷体_GB2312"/>
                </a:rPr>
                <a:t>万元</a:t>
              </a:r>
              <a:endParaRPr b="0" lang="en-US" sz="2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128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1280" y="2928240"/>
              <a:ext cx="28872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000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728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87280" y="2928240"/>
              <a:ext cx="28908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7636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63640" y="2107080"/>
              <a:ext cx="0" cy="10728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63640" y="2107080"/>
              <a:ext cx="28728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50920" y="2107080"/>
              <a:ext cx="0" cy="10728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340000" y="2296440"/>
              <a:ext cx="0" cy="883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40000" y="2296440"/>
              <a:ext cx="28728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27280" y="2296440"/>
              <a:ext cx="0" cy="8834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16360" y="2485800"/>
              <a:ext cx="0" cy="6940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16360" y="2485800"/>
              <a:ext cx="28728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3640" y="2485800"/>
              <a:ext cx="0" cy="6940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92360" y="2738880"/>
              <a:ext cx="0" cy="4410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492360" y="2738880"/>
              <a:ext cx="28764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80000" y="2738880"/>
              <a:ext cx="0" cy="4410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67280" y="2485800"/>
              <a:ext cx="0" cy="6940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67280" y="2485800"/>
              <a:ext cx="28872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56000" y="2485800"/>
              <a:ext cx="0" cy="6940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1636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16360" y="2928240"/>
              <a:ext cx="28728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0364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9272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92720" y="2928240"/>
              <a:ext cx="28728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8000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6728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67280" y="2928240"/>
              <a:ext cx="28908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5636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43640" y="2738880"/>
              <a:ext cx="0" cy="4410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443640" y="2738880"/>
              <a:ext cx="28908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32720" y="2738880"/>
              <a:ext cx="0" cy="4410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020000" y="2485800"/>
              <a:ext cx="0" cy="6940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20000" y="2485800"/>
              <a:ext cx="28872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08720" y="2485800"/>
              <a:ext cx="0" cy="69408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9636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96360" y="2928240"/>
              <a:ext cx="28872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85080" y="2928240"/>
              <a:ext cx="0" cy="25164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172360" y="2738880"/>
              <a:ext cx="0" cy="4410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172360" y="2738880"/>
              <a:ext cx="287280" cy="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59640" y="2738880"/>
              <a:ext cx="0" cy="441000"/>
            </a:xfrm>
            <a:prstGeom prst="line">
              <a:avLst/>
            </a:prstGeom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06200" y="444168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）从表或图中可以看出，样本数据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众数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中位数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，利用计算器求得这组数据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平均数约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。可以推测，这个服装部营业员的月销售额为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万元的人数最多，中间的销售额是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万元，平均销售额大约是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万元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8000" y="44416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如果想确定一个较高的销售目标，这个目标可以定为每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万元（平均数）。因为从样本数据看，在平均数、中位数和众数中，平均数最大。可以估计，月销售额定为每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万元是一个较高目标，大约会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/3</a:t>
            </a:r>
            <a:r>
              <a:rPr b="1" lang="zh-CN" sz="28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的营业员获得奖励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436572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如果想让一半左右的营业员能够达到目标，月销售额可以定为每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万元（中位数）。因为从样本情况看，月销售额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万元（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万元）的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人，占总数的一半左右，可以估计，如果月销售额定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dc5900"/>
                </a:solidFill>
                <a:latin typeface="Times New Roman"/>
                <a:ea typeface="楷体_GB2312"/>
              </a:rPr>
              <a:t>万元，奖有一半左右的营业员获得奖励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8000" y="3500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月销售额在哪个值的人数最多？中间的月销售额是多少？平均的月销售额是多少 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1120" y="3500280"/>
            <a:ext cx="83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如果想确定一个较高的销售目标，你认为月销售额定为多少合适？说明理由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8000" y="34909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）如果想让一半左右的营业员都能达到目标，你认为月销售额定为多少合适？说明理由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6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304920" y="0"/>
            <a:ext cx="4477680" cy="797040"/>
            <a:chOff x="304920" y="0"/>
            <a:chExt cx="4477680" cy="797040"/>
          </a:xfrm>
        </p:grpSpPr>
        <p:sp>
          <p:nvSpPr>
            <p:cNvPr id="579" name=""/>
            <p:cNvSpPr txBox="1"/>
            <p:nvPr/>
          </p:nvSpPr>
          <p:spPr>
            <a:xfrm>
              <a:off x="1125360" y="149400"/>
              <a:ext cx="3657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宋体"/>
                </a:rPr>
                <a:t>议一议</a:t>
              </a:r>
              <a:endParaRPr b="1" lang="en-US" sz="4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304920" y="0"/>
              <a:ext cx="676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"/>
          <p:cNvSpPr/>
          <p:nvPr/>
        </p:nvSpPr>
        <p:spPr>
          <a:xfrm>
            <a:off x="380880" y="1143000"/>
            <a:ext cx="8763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鞋店老板一般最关心</a:t>
            </a:r>
            <a:r>
              <a:rPr b="1" lang="zh-CN" sz="4000" spc="-1" strike="noStrike">
                <a:solidFill>
                  <a:srgbClr val="d7070c"/>
                </a:solidFill>
                <a:latin typeface="Tahoma"/>
              </a:rPr>
              <a:t>众数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公司老板一般以</a:t>
            </a:r>
            <a:r>
              <a:rPr b="1" lang="zh-CN" sz="4000" spc="-1" strike="noStrike">
                <a:solidFill>
                  <a:srgbClr val="d7070c"/>
                </a:solidFill>
                <a:latin typeface="Tahoma"/>
              </a:rPr>
              <a:t>中位数</a:t>
            </a: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为销售标准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裁判一般以</a:t>
            </a:r>
            <a:r>
              <a:rPr b="1" lang="zh-CN" sz="4000" spc="-1" strike="noStrike">
                <a:solidFill>
                  <a:srgbClr val="d7070c"/>
                </a:solidFill>
                <a:latin typeface="Tahoma"/>
              </a:rPr>
              <a:t>平均数</a:t>
            </a: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为选手最终得分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6800" y="4251240"/>
            <a:ext cx="780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问：学习</a:t>
            </a:r>
            <a:r>
              <a:rPr b="1" lang="zh-CN" sz="4000" spc="-1" strike="noStrike">
                <a:solidFill>
                  <a:srgbClr val="d7070c"/>
                </a:solidFill>
                <a:latin typeface="Tahoma"/>
              </a:rPr>
              <a:t>平均数、中位数和众数</a:t>
            </a: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后</a:t>
            </a:r>
            <a:r>
              <a:rPr b="1" lang="en-US" sz="4000" spc="-1" strike="noStrike">
                <a:solidFill>
                  <a:srgbClr val="007a77"/>
                </a:solidFill>
                <a:latin typeface="Tahoma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ahoma"/>
              </a:rPr>
              <a:t>你对它们各有哪些感受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6600"/>
              </a:solidFill>
              <a:latin typeface="黑体"/>
              <a:ea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83628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6600"/>
                </a:solidFill>
                <a:latin typeface="Arial"/>
              </a:rPr>
              <a:t>【</a:t>
            </a:r>
            <a:r>
              <a:rPr b="1" lang="zh-CN" sz="3000" spc="-1" strike="noStrike">
                <a:solidFill>
                  <a:srgbClr val="ff6600"/>
                </a:solidFill>
                <a:latin typeface="Arial"/>
              </a:rPr>
              <a:t>教学目标】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979a5"/>
                </a:solidFill>
                <a:latin typeface="仿宋_GB2312"/>
                <a:ea typeface="仿宋_GB2312"/>
              </a:rPr>
              <a:t>    </a:t>
            </a:r>
            <a:r>
              <a:rPr b="1" lang="zh-CN" sz="3000" spc="-1" strike="noStrike">
                <a:solidFill>
                  <a:srgbClr val="7979a5"/>
                </a:solidFill>
                <a:latin typeface="仿宋_GB2312"/>
                <a:ea typeface="仿宋_GB2312"/>
              </a:rPr>
              <a:t>知识与技能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仿宋_GB2312"/>
                <a:ea typeface="仿宋_GB2312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仿宋_GB2312"/>
                <a:ea typeface="仿宋_GB2312"/>
              </a:rPr>
              <a:t>认识中位数和众数，并能求出一组数据中的中位数和众数</a:t>
            </a:r>
            <a:r>
              <a:rPr b="1" lang="en-US" sz="3000" spc="-1" strike="noStrike">
                <a:solidFill>
                  <a:srgbClr val="ff6600"/>
                </a:solidFill>
                <a:latin typeface="仿宋_GB2312"/>
                <a:ea typeface="仿宋_GB2312"/>
              </a:rPr>
              <a:t>.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979a5"/>
                </a:solidFill>
                <a:latin typeface="仿宋_GB2312"/>
                <a:ea typeface="仿宋_GB2312"/>
              </a:rPr>
              <a:t>    </a:t>
            </a:r>
            <a:r>
              <a:rPr b="1" lang="zh-CN" sz="3000" spc="-1" strike="noStrike">
                <a:solidFill>
                  <a:srgbClr val="7979a5"/>
                </a:solidFill>
                <a:latin typeface="仿宋_GB2312"/>
                <a:ea typeface="仿宋_GB2312"/>
              </a:rPr>
              <a:t>过程与方法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仿宋_GB2312"/>
                <a:ea typeface="仿宋_GB2312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仿宋_GB2312"/>
                <a:ea typeface="仿宋_GB2312"/>
              </a:rPr>
              <a:t>理解中位数和众数的作用，帮助人们在实际问题中分析并做出决策</a:t>
            </a:r>
            <a:r>
              <a:rPr b="1" lang="en-US" sz="3000" spc="-1" strike="noStrike">
                <a:solidFill>
                  <a:srgbClr val="ff6600"/>
                </a:solidFill>
                <a:latin typeface="仿宋_GB2312"/>
                <a:ea typeface="仿宋_GB2312"/>
              </a:rPr>
              <a:t>.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979a5"/>
                </a:solidFill>
                <a:latin typeface="仿宋_GB2312"/>
                <a:ea typeface="仿宋_GB2312"/>
              </a:rPr>
              <a:t>    </a:t>
            </a:r>
            <a:r>
              <a:rPr b="1" lang="zh-CN" sz="3000" spc="-1" strike="noStrike">
                <a:solidFill>
                  <a:srgbClr val="7979a5"/>
                </a:solidFill>
                <a:latin typeface="仿宋_GB2312"/>
                <a:ea typeface="仿宋_GB2312"/>
              </a:rPr>
              <a:t>情感态度与价值观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仿宋_GB2312"/>
                <a:ea typeface="仿宋_GB2312"/>
              </a:rPr>
              <a:t>  </a:t>
            </a:r>
            <a:r>
              <a:rPr b="1" lang="zh-CN" sz="3000" spc="-1" strike="noStrike">
                <a:solidFill>
                  <a:srgbClr val="ff6600"/>
                </a:solidFill>
                <a:latin typeface="仿宋_GB2312"/>
                <a:ea typeface="仿宋_GB2312"/>
              </a:rPr>
              <a:t>在利用中位数和众数分析数据信息做出决策的过程中，体会中位数和众数的作用</a:t>
            </a:r>
            <a:r>
              <a:rPr b="1" lang="en-US" sz="3000" spc="-1" strike="noStrike">
                <a:solidFill>
                  <a:srgbClr val="ff6600"/>
                </a:solidFill>
                <a:latin typeface="仿宋_GB2312"/>
                <a:ea typeface="仿宋_GB2312"/>
              </a:rPr>
              <a:t>.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539280" y="1341000"/>
            <a:ext cx="823140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平均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的计算要用到所有的数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它能够充分利用数据提供的信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在现实生活中较为常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但它</a:t>
            </a:r>
            <a:r>
              <a:rPr b="1" lang="en-US" sz="3200" spc="-1" strike="noStrike">
                <a:solidFill>
                  <a:srgbClr val="d7070c"/>
                </a:solidFill>
                <a:latin typeface="Arial"/>
              </a:rPr>
              <a:t>受极端值的影响较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50760" y="350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01000" y="2997360"/>
            <a:ext cx="41752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一组数据中某些数据多次重复出现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众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往往是人们关心的一个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众数不受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端值的影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它的一个优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缺点：不能充分利用所有的数据信息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08200" y="4981680"/>
            <a:ext cx="83358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中位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需很少的计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不受极端值的影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在有些情况下是一个优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缺点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能充分利用所有的数据信息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42920" y="0"/>
            <a:ext cx="170676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归纳</a:t>
            </a:r>
            <a:endParaRPr b="0" lang="en-US" sz="2400" spc="-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57200" y="228600"/>
            <a:ext cx="814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数学老师布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道选择题，课代表将全班同学的答情况绘制成条形统计图，根据图表，全班每位同学答对的题数的中位数和众数分别为（       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547640" y="1981080"/>
            <a:ext cx="6096240" cy="36576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6324480" y="5029200"/>
            <a:ext cx="76212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209680" y="1905120"/>
            <a:ext cx="0" cy="91440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096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学生数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86600" y="4724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答对题数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26160" y="10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69960" y="571500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 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      B   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     C  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      D  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0920" y="4114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5830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34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9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50920" y="476280"/>
            <a:ext cx="85341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、八年级一班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6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个同学中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岁的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人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4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岁的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0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人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5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岁的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5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人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6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岁 的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人。八年级一班学生年龄的平均分，中位数，众数分别是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(     )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、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个数由小到大依次排列，平均数是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8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，如果这组数的前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个数的平均数是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3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，后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个数的平均数是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2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，这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个数的中位数是（  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18680" y="1916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474320" y="1844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96720" y="1916280"/>
            <a:ext cx="12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4.5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86680" y="4076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95280" y="609480"/>
            <a:ext cx="874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爱明商贸公司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名销售员，去年完成的销售额情况如下表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求销售额的平均数，众数，中位数。（单位：万元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今年公司为了调动员工积极性，提高销售额，准备采取超过额有奖的措施。请根据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的结果，通过比较，合理确定今年每个销售员统一的销售额标准是多少万元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2422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2666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356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活动与探研</a:t>
            </a:r>
            <a:r>
              <a:rPr b="1" i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 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142920" y="1484280"/>
          <a:ext cx="8893080" cy="946080"/>
        </p:xfrm>
        <a:graphic>
          <a:graphicData uri="http://schemas.openxmlformats.org/drawingml/2006/table">
            <a:tbl>
              <a:tblPr/>
              <a:tblGrid>
                <a:gridCol w="3627360"/>
                <a:gridCol w="752400"/>
                <a:gridCol w="750960"/>
                <a:gridCol w="754200"/>
                <a:gridCol w="750960"/>
                <a:gridCol w="752400"/>
                <a:gridCol w="753840"/>
                <a:gridCol w="750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销售额（单位：万元）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销售员人数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（单位：人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0" name=""/>
          <p:cNvSpPr/>
          <p:nvPr/>
        </p:nvSpPr>
        <p:spPr>
          <a:xfrm>
            <a:off x="0" y="5271840"/>
            <a:ext cx="8748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解：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平均数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.6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万元，众数为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万元，中位数为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若规定平均数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.6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万元为标准，则多数人无法或不可能超额完成，会挫伤员工积极性；若规定众数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万元为标准，则绝大多数不必努力就可以超额完成，不利于提高年销售额；规定中位数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万元为标准，多数人能完成或超额，少数人经过努力也能完成，所以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万元为标准较合理。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75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75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25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25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25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24000" y="1989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这节课的学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有什么</a:t>
            </a:r>
            <a:r>
              <a:rPr b="1" lang="zh-CN" sz="3200" spc="-1" strike="noStrike">
                <a:solidFill>
                  <a:srgbClr val="d7070c"/>
                </a:solidFill>
                <a:latin typeface="Times New Roman"/>
              </a:rPr>
              <a:t>收获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7608960" y="0"/>
            <a:ext cx="1535040" cy="19890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950760" y="2892600"/>
            <a:ext cx="65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掌握了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中位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众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概念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116000" y="350028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体会到平均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中位数与众数在生活中的应用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762120" y="838080"/>
            <a:ext cx="7924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彩云"/>
              </a:rPr>
              <a:t>谢谢，再见！</a:t>
            </a:r>
            <a:endParaRPr b="1" lang="en-US" sz="60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2556000" y="3141720"/>
            <a:ext cx="2865240" cy="3065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012000" y="476280"/>
            <a:ext cx="2305080" cy="1728360"/>
            <a:chOff x="6012000" y="476280"/>
            <a:chExt cx="2305080" cy="1728360"/>
          </a:xfrm>
        </p:grpSpPr>
        <p:sp>
          <p:nvSpPr>
            <p:cNvPr id="86" name=""/>
            <p:cNvSpPr/>
            <p:nvPr/>
          </p:nvSpPr>
          <p:spPr>
            <a:xfrm>
              <a:off x="6012000" y="476280"/>
              <a:ext cx="2305080" cy="1728360"/>
            </a:xfrm>
            <a:prstGeom prst="cloudCallout">
              <a:avLst>
                <a:gd name="adj1" fmla="val -100486"/>
                <a:gd name="adj2" fmla="val 86449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05480" y="747360"/>
              <a:ext cx="185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这个公司员工收入到底怎样？</a:t>
              </a:r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769480" y="3357720"/>
            <a:ext cx="911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经理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479736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512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二天，阿冲上班了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5084640"/>
            <a:ext cx="792000" cy="79236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1700280"/>
            <a:ext cx="107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400536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780000" y="2565360"/>
          <a:ext cx="1422360" cy="12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0" y="2565360"/>
                    <a:ext cx="142236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755640" y="549360"/>
            <a:ext cx="2592360" cy="1800000"/>
          </a:xfrm>
          <a:prstGeom prst="cloudCallout">
            <a:avLst>
              <a:gd name="adj1" fmla="val 71555"/>
              <a:gd name="adj2" fmla="val 72925"/>
            </a:avLst>
          </a:pr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83664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这里报酬不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平均工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在这里好好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95960" y="3429000"/>
            <a:ext cx="5461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阿冲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77200" y="4653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阿冲在公司工作了一周后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907920"/>
            <a:ext cx="3456000" cy="1324080"/>
          </a:xfrm>
          <a:prstGeom prst="cloudCallout">
            <a:avLst>
              <a:gd name="adj1" fmla="val 60564"/>
              <a:gd name="adj2" fmla="val 116069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平均工资确实是每月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2000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元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你看看公司的工资报表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57200"/>
            <a:ext cx="3733920" cy="1752480"/>
          </a:xfrm>
          <a:prstGeom prst="cloudCallout">
            <a:avLst>
              <a:gd name="adj1" fmla="val -37583"/>
              <a:gd name="adj2" fmla="val 92481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Comic Sans MS"/>
              </a:rPr>
              <a:t>你欺骗了我，我已经问过公司的职员了，没有一个人是超过</a:t>
            </a:r>
            <a:r>
              <a:rPr b="1" lang="zh-CN" sz="2000" spc="-1" strike="noStrike">
                <a:solidFill>
                  <a:srgbClr val="007a77"/>
                </a:solidFill>
                <a:latin typeface="Comic Sans MS"/>
              </a:rPr>
              <a:t>2000</a:t>
            </a:r>
            <a:r>
              <a:rPr b="1" lang="zh-CN" sz="2000" spc="-1" strike="noStrike">
                <a:solidFill>
                  <a:srgbClr val="007a77"/>
                </a:solidFill>
                <a:latin typeface="Comic Sans MS"/>
              </a:rPr>
              <a:t>元的</a:t>
            </a: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2781360"/>
          <a:ext cx="1422360" cy="12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781360"/>
                    <a:ext cx="142236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492360" y="342900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经理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3276720"/>
            <a:ext cx="1218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Comic Sans MS"/>
              </a:rPr>
              <a:t>                </a:t>
            </a: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阿冲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43360" y="259560"/>
            <a:ext cx="34419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	</a:t>
            </a:r>
            <a:r>
              <a:rPr b="1" lang="zh-CN" sz="2800" spc="-1" strike="noStrike">
                <a:solidFill>
                  <a:srgbClr val="6600ff"/>
                </a:solidFill>
                <a:latin typeface="Comic Sans MS"/>
              </a:rPr>
              <a:t>该公司员工的月薪如下：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3068640"/>
            <a:ext cx="8151840" cy="94716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：请大家仔细观察表格中的数据，讨论该公司的月平均工资是多少？经理是否欺骗了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阿冲</a:t>
            </a: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4221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：平均月工资能否客观地反映员工的实际收入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2293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0c21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6e0c21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6e0c21"/>
                </a:solidFill>
                <a:latin typeface="Times New Roman"/>
              </a:rPr>
              <a:t>：再仔细观察表中的数据，你们认为用哪个数据反映一般职员的实际收入比较合适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197000"/>
          <a:ext cx="9144000" cy="1584360"/>
        </p:xfrm>
        <a:graphic>
          <a:graphicData uri="http://schemas.openxmlformats.org/drawingml/2006/table">
            <a:tbl>
              <a:tblPr/>
              <a:tblGrid>
                <a:gridCol w="900000"/>
                <a:gridCol w="1008000"/>
                <a:gridCol w="1008360"/>
                <a:gridCol w="863640"/>
                <a:gridCol w="936360"/>
                <a:gridCol w="935280"/>
                <a:gridCol w="909360"/>
                <a:gridCol w="963720"/>
                <a:gridCol w="863640"/>
                <a:gridCol w="755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员工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经理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副经理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月薪   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（元）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7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3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 txBox="1"/>
          <p:nvPr/>
        </p:nvSpPr>
        <p:spPr>
          <a:xfrm>
            <a:off x="250920" y="0"/>
            <a:ext cx="266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探究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16360" y="765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该公司员工的月薪如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413000"/>
          <a:ext cx="9144000" cy="1639800"/>
        </p:xfrm>
        <a:graphic>
          <a:graphicData uri="http://schemas.openxmlformats.org/drawingml/2006/table">
            <a:tbl>
              <a:tblPr/>
              <a:tblGrid>
                <a:gridCol w="900000"/>
                <a:gridCol w="1200240"/>
                <a:gridCol w="844560"/>
                <a:gridCol w="846000"/>
                <a:gridCol w="851040"/>
                <a:gridCol w="844560"/>
                <a:gridCol w="884160"/>
                <a:gridCol w="911160"/>
                <a:gridCol w="962280"/>
                <a:gridCol w="9000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员工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经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副经理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职员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月薪   </a:t>
                      </a:r>
                      <a:r>
                        <a:rPr b="1" lang="zh-CN" sz="18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（元）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7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3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23760" cy="112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0"/>
            <a:ext cx="4248360" cy="981000"/>
          </a:xfrm>
          <a:prstGeom prst="cloudCallout">
            <a:avLst>
              <a:gd name="adj1" fmla="val -34976"/>
              <a:gd name="adj2" fmla="val 89319"/>
            </a:avLst>
          </a:prstGeom>
          <a:solidFill>
            <a:srgbClr val="ff66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的工资是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元，在公司算中等收入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852640"/>
            <a:ext cx="291960" cy="414360"/>
          </a:xfrm>
          <a:prstGeom prst="downArrow">
            <a:avLst>
              <a:gd name="adj1" fmla="val 50000"/>
              <a:gd name="adj2" fmla="val 35481"/>
            </a:avLst>
          </a:prstGeom>
          <a:solidFill>
            <a:srgbClr val="993366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357720"/>
            <a:ext cx="13827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中位数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573360"/>
            <a:ext cx="8964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中位数定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组数据按大小顺序排列，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位于最中间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一个数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叫做这组数据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位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8172360" y="404640"/>
                <a:ext cx="9716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5364000" y="0"/>
            <a:ext cx="3780000" cy="981000"/>
          </a:xfrm>
          <a:prstGeom prst="cloudCallout">
            <a:avLst>
              <a:gd name="adj1" fmla="val 20851"/>
              <a:gd name="adj2" fmla="val 53236"/>
            </a:avLst>
          </a:prstGeom>
          <a:solidFill>
            <a:srgbClr val="008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8f949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e8f949"/>
                </a:solidFill>
                <a:latin typeface="Comic Sans MS"/>
              </a:rPr>
              <a:t>我们好几人工资都是</a:t>
            </a:r>
            <a:r>
              <a:rPr b="1" lang="zh-CN" sz="2400" spc="-1" strike="noStrike">
                <a:solidFill>
                  <a:srgbClr val="e8f949"/>
                </a:solidFill>
                <a:latin typeface="Comic Sans MS"/>
              </a:rPr>
              <a:t>1100</a:t>
            </a:r>
            <a:r>
              <a:rPr b="1" lang="zh-CN" sz="2400" spc="-1" strike="noStrike">
                <a:solidFill>
                  <a:srgbClr val="e8f949"/>
                </a:solidFill>
                <a:latin typeface="Comic Sans MS"/>
              </a:rPr>
              <a:t>元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59640" y="2924280"/>
            <a:ext cx="295200" cy="457200"/>
          </a:xfrm>
          <a:prstGeom prst="downArrow">
            <a:avLst>
              <a:gd name="adj1" fmla="val 50000"/>
              <a:gd name="adj2" fmla="val 38720"/>
            </a:avLst>
          </a:prstGeom>
          <a:solidFill>
            <a:srgbClr val="993366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00720" y="3357720"/>
            <a:ext cx="13604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众数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6610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众数定义</a:t>
            </a:r>
            <a:r>
              <a:rPr b="1" lang="en-US" sz="3200" spc="-1" strike="noStrike">
                <a:solidFill>
                  <a:srgbClr val="d7070c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组数据中，出现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次数最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那个数据叫做这组数据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众数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68000" y="4508640"/>
            <a:ext cx="48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当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偶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个数据时，为</a:t>
            </a:r>
            <a:r>
              <a:rPr b="1" lang="zh-CN" sz="2800" spc="-1" strike="noStrike">
                <a:solidFill>
                  <a:srgbClr val="d7070c"/>
                </a:solidFill>
                <a:latin typeface="Arial"/>
              </a:rPr>
              <a:t>最中间两个数据的平均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6696000" y="2025360"/>
            <a:ext cx="288720" cy="1511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d707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2205000"/>
            <a:ext cx="863640" cy="503280"/>
          </a:xfrm>
          <a:prstGeom prst="ellipse">
            <a:avLst/>
          </a:prstGeom>
          <a:noFill/>
          <a:ln cap="sq" w="12600">
            <a:solidFill>
              <a:srgbClr val="d707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应用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:</a:t>
            </a:r>
            <a:br>
              <a:rPr sz="4000"/>
            </a:b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快速回答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: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下列这组数据的中位数分别是多少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?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）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7    5    4    8    5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）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8   2   4   8   9    6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924280"/>
            <a:ext cx="54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重排：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4    5    5    7    8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4797360"/>
            <a:ext cx="74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重排：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2   4    6    8      8     9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2924280"/>
            <a:ext cx="93672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4724280"/>
            <a:ext cx="180036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13200" y="2997360"/>
            <a:ext cx="16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7070c"/>
                </a:solidFill>
                <a:latin typeface="Arial"/>
              </a:rPr>
              <a:t>中位数是</a:t>
            </a:r>
            <a:r>
              <a:rPr b="1" lang="en-US" sz="3600" spc="-1" strike="noStrike">
                <a:solidFill>
                  <a:srgbClr val="d7070c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587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7070c"/>
                </a:solidFill>
                <a:latin typeface="Arial"/>
              </a:rPr>
              <a:t>中位数是</a:t>
            </a:r>
            <a:r>
              <a:rPr b="1" lang="en-US" sz="3600" spc="-1" strike="noStrike">
                <a:solidFill>
                  <a:srgbClr val="d7070c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06000" y="107784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如何确定一组数的中位数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26960" y="2276640"/>
            <a:ext cx="623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第一步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排序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由小到大或由大到小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第二步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确定是奇数个数据还是偶数个数据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第三步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如果是奇数个数据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中间的数就是中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位数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如果是偶数个数据中间两个数的平均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数就是中位数</a:t>
            </a:r>
            <a:r>
              <a:rPr b="1" lang="zh-CN" sz="3200" spc="-1" strike="noStrike">
                <a:solidFill>
                  <a:srgbClr val="d7070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72680" y="189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说出下列各组数据的众数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4280" y="1052640"/>
            <a:ext cx="52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1240" y="2708280"/>
            <a:ext cx="43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6600" y="4292640"/>
            <a:ext cx="85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66100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0840" y="163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试一试：</a:t>
            </a:r>
            <a:endParaRPr b="0" i="1" lang="en-US" sz="2400" spc="-1" strike="noStrike">
              <a:ln w="9360">
                <a:solidFill>
                  <a:srgbClr val="ff99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1125360"/>
            <a:ext cx="647640" cy="4320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7080" y="1125360"/>
            <a:ext cx="647640" cy="4320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61080" y="1125360"/>
            <a:ext cx="647640" cy="43200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18414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众数是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2781360"/>
            <a:ext cx="647640" cy="43164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0000" y="2781360"/>
            <a:ext cx="647640" cy="43164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2781360"/>
            <a:ext cx="647640" cy="431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2781360"/>
            <a:ext cx="647640" cy="431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55840" y="3419640"/>
            <a:ext cx="34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众数是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4365720"/>
            <a:ext cx="647640" cy="43164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4365720"/>
            <a:ext cx="648000" cy="43164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88000" y="4365720"/>
            <a:ext cx="648000" cy="43164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365720"/>
            <a:ext cx="647640" cy="431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365720"/>
            <a:ext cx="647640" cy="431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85080" y="4365720"/>
            <a:ext cx="647640" cy="431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4932360"/>
            <a:ext cx="36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众数是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5661000"/>
            <a:ext cx="23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没有众数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34200 w 792000"/>
              <a:gd name="textAreaRight" fmla="*/ 757800 w 792000"/>
              <a:gd name="textAreaTop" fmla="*/ 34200 h 549360"/>
              <a:gd name="textAreaBottom" fmla="*/ 51516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84" y="1350"/>
                </a:lnTo>
                <a:lnTo>
                  <a:pt x="1350" y="135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84" y="20250"/>
                </a:lnTo>
                <a:lnTo>
                  <a:pt x="29784" y="135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784" y="2025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134" h="21600">
                <a:moveTo>
                  <a:pt x="8523" y="10800"/>
                </a:moveTo>
                <a:lnTo>
                  <a:pt x="22611" y="3756"/>
                </a:lnTo>
                <a:lnTo>
                  <a:pt x="22611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06:04:44Z</dcterms:created>
  <dc:creator/>
  <dc:description/>
  <dc:language>en-US</dc:language>
  <cp:lastModifiedBy>微软用户</cp:lastModifiedBy>
  <dcterms:modified xsi:type="dcterms:W3CDTF">2015-03-10T06:53:30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